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1D7-3165-404C-AE66-1DAAC953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AD0-1244-41AB-B8C4-F6CB7C15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E12-4680-4EA0-B86F-457D490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CE8-B0B8-42B6-9657-C7FCB700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2D5D-393C-425C-ACAD-E25FB9A8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FC7A-2EAB-40DD-9688-7FC5C41A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FF41-5FA4-48DE-844F-9A3AFC69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B3C-7536-4586-BFB8-4A3214DE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F2DF-F95B-4517-9FCF-91BC1FF9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662C-D9A9-4620-A206-50A686E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B777-7D9B-45CF-ABFF-A8D6634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EA3-3A41-4A10-84B9-99CFA3D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6789-70D7-4DCD-9F27-4164E3F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95CA-3D34-43C4-9EEC-E3162A1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C5D-282B-479D-B84A-0939FA91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AFC-ED91-4F70-9B77-36F4E0EF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8516-7571-45FE-8601-B0D3FA23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9DBB-C6BE-4234-A644-25464D4F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B9F6-BC89-4864-A0D4-C9F66A2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7FC1-157E-4D0D-8684-74399769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FA2D1-59F6-43DF-80BC-648A4978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167A-2476-407C-B50E-EB58FE1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C69-B789-4BD5-8BC6-659EE7C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201B-A87D-4B52-96A1-8B9553D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FC17-DB36-479E-9BF6-EFB4F64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C7A5-E1E8-4F45-BEDE-BD57613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FF6A-4638-4022-835E-CC04C5D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6B66-BAC5-41B3-9CF7-B701D4B2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D301-02CA-4227-AE9C-3B9F5BA9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4AD3-E3F9-4BB6-8447-9CF7EDD7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A46DC-F595-4552-9CB3-751B6954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BFAB-33DC-4CE9-8F34-6423864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B24B-FC0C-42F6-B06E-9EE12301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50D-0CB7-4C7F-A933-DF01E6B3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6EAD-42E3-4192-AE1C-C59537F1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1EDD-9E49-4A02-9634-16E61C4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DCD5-DB67-480A-84E3-B049A92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ABF9-535A-493E-BAD7-262E782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6061-C3E0-4B59-B8A8-201E264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FAB00-2D51-4C38-B06F-D656ADD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40826-00A0-4461-AAA6-1F0EEA56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3500-E111-4435-8760-048CDCE6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E27E-6FD4-4871-A267-1EF3BDA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AF7FC-8383-47CC-8A33-FD613278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217-1A95-4EE2-9A24-E1D4E85C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891F-4823-43E7-9256-A2CE8CB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9CD3-DFBE-4ED7-A220-A78BB48C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74CA8-E98B-4AF0-84D6-30E30151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E81B-A9E0-4D0F-B2B3-22575CE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A7A6-0822-4D1B-A82F-AD9F450D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D539-9CAE-474C-BFCD-57E6271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085C-8C71-4F15-B50E-1724EC9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6680-E4FA-46FC-9B84-1778CF8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F7DE-C16A-4C6F-986D-02787716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9A3F-D433-4876-A78B-2E31A365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180-19D0-428D-B220-A847569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9AC5E-E4D3-4CDD-A6E3-4FEFFCE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14D3-390D-4263-8582-A38597EF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18DC-DB88-46EC-B015-E37BDBB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BC07-F579-444C-BD52-3AE9FDF8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067D-B5C4-47BA-8367-01F0B935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9FAB-A1F2-4CF6-93CA-DD605521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1C06-41F8-48BD-8BA9-2F3D5B6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73B4-E94F-4B6D-9B36-C83D1C8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57B4-1C62-4428-AAC1-0B452621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C80E-B0DE-437C-90DE-1FEF17E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C3E-C263-42BE-9902-135F74A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D1A7-0479-4A92-AB7D-ECEED7D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62A7-6341-48E5-B423-C8D6086B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A1B5-F094-42EC-8D9C-C5234ABD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C206F-9344-449A-A4C9-9ED0F26E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C619-948E-4744-A646-5FA961C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D92E-A3AA-4B6B-BF80-4A1529A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F5F47-6AE8-4194-9A40-43B0987E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2349-5643-4988-9ADF-BFF2D403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FFD4-BFE8-4225-BC45-3AA4DC6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D1389-631C-4360-AD97-1752C19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489-9A9A-48F3-BBA8-E889DD1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EA05-A15D-4456-902D-B259FC9E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2C36-19CF-4121-B893-80915E8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D0D5-8453-4E5A-AFBB-BCB3DF3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879A-8583-49C2-90CC-BACABEDC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6EDD-D7C1-476D-AADC-018B367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E80C-5A3C-44BF-953F-86221628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EF51-64B3-4576-8CBE-BF8CB11C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60A8-2E9D-48DF-847D-57F1D54A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700F-8124-4332-9F71-F8756950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B40E-A923-49F6-9012-CE1A6AEC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830-0029-4E45-A2F0-8A6AB6CD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98FE6-72F9-4040-A6FC-2D1EEBAF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A49E-6D1A-42C3-95A8-CC82B10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F1B6-E439-4BFD-B8CA-C23A788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4FE3E-87C8-4099-B617-B328C14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6B00A-D5EF-423D-B308-075DDFD9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AD017-5AD1-4A8E-A43B-03672935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CF6B5-2706-477A-9DFD-229EF9EA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F8A2-7D67-4579-945E-5581DB7B251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9E14-4F88-4AF6-BFE8-FEA58B42344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800-0598-4820-A0AC-9A3F5F00359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EB5-94E5-4AA8-843F-7C7087E8671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A5B-ECAC-4059-8FE3-29ED60BBBFE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5CF2-2955-48ED-AB3B-1652355A92C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7484-53B2-4F12-85FD-C1F725A52B8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23A-AC30-4329-9B59-E5EABE3BA49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8" descr=""/>
          <p:cNvPicPr/>
          <p:nvPr/>
        </p:nvPicPr>
        <p:blipFill>
          <a:blip r:embed="rId1"/>
          <a:stretch/>
        </p:blipFill>
        <p:spPr>
          <a:xfrm>
            <a:off x="689040" y="177948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87-2"/>
          <p:cNvPicPr/>
          <p:nvPr/>
        </p:nvPicPr>
        <p:blipFill>
          <a:blip r:embed="rId1"/>
          <a:stretch/>
        </p:blipFill>
        <p:spPr>
          <a:xfrm>
            <a:off x="1143000" y="214200"/>
            <a:ext cx="7143840" cy="47815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2"/>
          <p:cNvSpPr/>
          <p:nvPr/>
        </p:nvSpPr>
        <p:spPr>
          <a:xfrm>
            <a:off x="1143000" y="49291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6" descr="25184_20051207163856"/>
          <p:cNvPicPr/>
          <p:nvPr/>
        </p:nvPicPr>
        <p:blipFill>
          <a:blip r:embed="rId1"/>
          <a:stretch/>
        </p:blipFill>
        <p:spPr>
          <a:xfrm>
            <a:off x="1285920" y="214200"/>
            <a:ext cx="6192720" cy="380232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1214280" y="4714920"/>
            <a:ext cx="64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getfull"/>
          <p:cNvPicPr/>
          <p:nvPr/>
        </p:nvPicPr>
        <p:blipFill>
          <a:blip r:embed="rId1"/>
          <a:stretch/>
        </p:blipFill>
        <p:spPr>
          <a:xfrm>
            <a:off x="571680" y="214200"/>
            <a:ext cx="8215200" cy="472464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2"/>
          <p:cNvSpPr/>
          <p:nvPr/>
        </p:nvSpPr>
        <p:spPr>
          <a:xfrm>
            <a:off x="1357200" y="521496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88-4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41734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2"/>
          <p:cNvSpPr/>
          <p:nvPr/>
        </p:nvSpPr>
        <p:spPr>
          <a:xfrm>
            <a:off x="785880" y="478620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88-5"/>
          <p:cNvPicPr/>
          <p:nvPr/>
        </p:nvPicPr>
        <p:blipFill>
          <a:blip r:embed="rId1"/>
          <a:stretch/>
        </p:blipFill>
        <p:spPr>
          <a:xfrm>
            <a:off x="2357280" y="285840"/>
            <a:ext cx="4457880" cy="44244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3"/>
          <p:cNvSpPr/>
          <p:nvPr/>
        </p:nvSpPr>
        <p:spPr>
          <a:xfrm>
            <a:off x="2428920" y="5286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тащив из воды, проверьте его дыхание и пуль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89-7"/>
          <p:cNvPicPr/>
          <p:nvPr/>
        </p:nvPicPr>
        <p:blipFill>
          <a:blip r:embed="rId1"/>
          <a:stretch/>
        </p:blipFill>
        <p:spPr>
          <a:xfrm>
            <a:off x="2286000" y="214200"/>
            <a:ext cx="4281480" cy="43196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2"/>
          <p:cNvSpPr/>
          <p:nvPr/>
        </p:nvSpPr>
        <p:spPr>
          <a:xfrm>
            <a:off x="857160" y="492912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87-1"/>
          <p:cNvPicPr/>
          <p:nvPr/>
        </p:nvPicPr>
        <p:blipFill>
          <a:blip r:embed="rId1"/>
          <a:stretch/>
        </p:blipFill>
        <p:spPr>
          <a:xfrm>
            <a:off x="2143080" y="857160"/>
            <a:ext cx="4457880" cy="39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25184_20051207163842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Lucida Sans Unicode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500040" y="189000"/>
            <a:ext cx="8358120" cy="45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928800" y="214200"/>
            <a:ext cx="7215120" cy="388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1000080" y="4429080"/>
            <a:ext cx="721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photo20"/>
          <p:cNvPicPr/>
          <p:nvPr/>
        </p:nvPicPr>
        <p:blipFill>
          <a:blip r:embed="rId1"/>
          <a:stretch/>
        </p:blipFill>
        <p:spPr>
          <a:xfrm>
            <a:off x="1357200" y="214200"/>
            <a:ext cx="6786720" cy="388476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2"/>
          <p:cNvSpPr/>
          <p:nvPr/>
        </p:nvSpPr>
        <p:spPr>
          <a:xfrm>
            <a:off x="1357200" y="49291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7" descr="0074-3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40003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2"/>
          <p:cNvSpPr/>
          <p:nvPr/>
        </p:nvSpPr>
        <p:spPr>
          <a:xfrm>
            <a:off x="714240" y="457200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Lucida Sans Unicode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0070c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20081223172210"/>
          <p:cNvPicPr/>
          <p:nvPr/>
        </p:nvPicPr>
        <p:blipFill>
          <a:blip r:embed="rId1"/>
          <a:stretch/>
        </p:blipFill>
        <p:spPr>
          <a:xfrm>
            <a:off x="714240" y="285840"/>
            <a:ext cx="7286760" cy="406224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2"/>
          <p:cNvSpPr/>
          <p:nvPr/>
        </p:nvSpPr>
        <p:spPr>
          <a:xfrm>
            <a:off x="1071720" y="4714920"/>
            <a:ext cx="70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игайтесь   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1:26:39Z</dcterms:created>
  <dc:creator>Admin</dc:creator>
  <dc:description/>
  <dc:language>en-US</dc:language>
  <cp:lastModifiedBy>user</cp:lastModifiedBy>
  <dcterms:modified xsi:type="dcterms:W3CDTF">2019-03-23T14:45:31Z</dcterms:modified>
  <cp:revision>9</cp:revision>
  <dc:subject/>
  <dc:title>Слайд 1</dc:title>
</cp:coreProperties>
</file>